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2036"/>
        <c:axId val="76816439"/>
      </c:barChart>
      <c:catAx>
        <c:axId val="76012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16439"/>
        <c:crosses val="autoZero"/>
        <c:auto val="1"/>
        <c:lblAlgn val="ctr"/>
        <c:lblOffset val="100"/>
        <c:noMultiLvlLbl val="0"/>
      </c:catAx>
      <c:valAx>
        <c:axId val="76816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2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D36-C763-417F-9A8F-EF0FC1F8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BC9-E3AE-4E7F-B438-208548F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E95-086C-4BF2-AFEF-01CBD20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1B7-99E6-45AC-82C1-57EBA7B0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E46-92ED-4F3C-905D-94C8C29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6A2-EE95-4CEE-9822-11CE0B1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999-BC6D-43AA-AF6C-BE6808DE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10E-6C83-4B28-8D7D-C472E93D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8CA-1866-402C-B779-FA4B402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C2E-0314-4653-84AF-51026F6D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DA6-FA38-4B5F-854B-C4BD320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FC8-983F-4A86-B1EE-0C830A5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517AB-D617-41E3-8C51-D97FA6B71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