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21189"/>
        <c:axId val="59924181"/>
      </c:barChart>
      <c:catAx>
        <c:axId val="71821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24181"/>
        <c:crosses val="autoZero"/>
        <c:auto val="1"/>
        <c:lblAlgn val="ctr"/>
        <c:lblOffset val="100"/>
        <c:noMultiLvlLbl val="0"/>
      </c:catAx>
      <c:valAx>
        <c:axId val="59924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21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A62-3A73-4AE2-A4A9-B8016598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8CE-E22B-4C36-A29C-4A092484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424-939C-4F55-983D-4B42FC37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72E-9EF9-49E9-B7B7-74FBF3B6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E89-39CE-4E4B-B26C-53D4F89E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DC9-FD9C-4250-BC54-9AAC4514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A95-8D2E-49AF-92D0-A0BA1D4D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3E1-DECD-4FFB-8B2D-F0BC7E8F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3E6-EA78-4E45-A936-8615112E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4F6-B4AD-4D94-A5A3-2FE6AABE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F47-9BD2-4820-AD88-30A486C1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A83-01AE-4774-B916-600AFA3C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F8192-1EA2-4298-AE66-A4110C780A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